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02E-EC3C-4D58-A9C0-5CA15485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EB2-FC0F-4BCB-AD07-CB097FC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6E3-C5CC-4022-B9F2-B19C56C4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973-1222-494A-AD07-F952EBBC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DD5-194B-4FAB-BC29-8D7C5E4F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2B8-1224-491D-A37B-EBAC5B3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C5F-EA91-4C73-B83A-F00825D1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C8E-1706-4234-8E1B-45ABB8F4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70B-0D84-450D-A2EE-06739D8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B0D-630C-402E-9884-A083424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561-E147-4542-B4E9-013597A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FD5-BA4E-479E-975A-2F61F29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2EF-4A0F-4227-8DAB-7D021895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Harriet Tub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77120" cy="3200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our understanding of the role of Harriet Tubman i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variety of sources and compar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www.mrwright.wikispaces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‘Year 8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down to the ‘Harriet Tubman’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you have a selection of sources, pick two written sources and two picture sources to gather as much information from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hoto’s/pictures tell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0T08:37:03Z</dcterms:modified>
  <cp:revision>1</cp:revision>
  <dc:subject/>
  <dc:title>Who was Harriet Tubman?</dc:title>
</cp:coreProperties>
</file>